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6519-64B6-4E24-B93D-0ECA221F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2D44-C4FE-40D5-97DC-7BA0C5276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9F4B-D846-4527-B13E-E5F7F7673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68A-E990-43B3-A278-C445EA8B2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BF7D-8EAF-4C92-A5D5-21334BA7E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0998-7E13-447F-ACEE-5EA44E810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3B2D-6B1E-4080-82C9-3C480CCF8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11C0-E832-4085-BDAA-4AA0938EF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FCBE-3071-46B3-BF86-6F95DBEAA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C63B-D066-4F99-8B62-FC489FD85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CD93-9965-4515-91E2-5B10F3B4A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AFD0-F44C-4218-862B-0C2295E96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EA44-A7FA-488B-A02A-9540EC53E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8AB5-E53E-489F-91D2-2D45DD88A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Suhana Kado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ik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0BA4-98E6-4843-9963-448A1F0D1F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needs to refine their understanding of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ADC1-283D-461D-AF0C-5FB8B09A0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2636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712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8CB7-80BD-4D21-B3FF-C936017E68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8229600" cy="47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s the teacher may ask or includ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FCD-0665-4D29-B3AC-BEE0232BF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43186" t="14563" r="3067" b="62995"/>
          <a:stretch/>
        </p:blipFill>
        <p:spPr>
          <a:xfrm>
            <a:off x="682560" y="3581280"/>
            <a:ext cx="8128080" cy="209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4864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: ‘take the test’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Student Book Module 2: Comparing Fractions  Pages 3-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91E-DCBA-404A-92D2-9BC7D944EC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276720" cy="411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3996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swer Key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Module 2: Comparing Fractions 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page 5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52B-C345-4914-AA88-CB1FD6A86C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060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agnosing the Misconception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 Module 2: Comparing Fractions page 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9B35-3659-4BF9-B92F-E6A73FF74D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#2: Examin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F32-CEFF-40F4-AC14-580AF5BA3A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E08C-BCBB-4B0E-B396-D2BE37B2EA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put the math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7E4-30DB-4A70-83EA-95E150E394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ider the following as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 ‘do the math.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math that you se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anticipated student respon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r students have solved this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3DC-488E-4979-B355-84E1194349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e your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D152-FB4E-4395-93F5-ADB3CFE525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Jigsaw – Expert Grou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r samples of student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three people who have the same sample # as you do – e.g., Sample #1 find three other people with Sampl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n expert group, complete the chart ‘Supporting Student Learn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BD6-D4A7-45F9-B922-40A86D0009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401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0B23-5249-4CE4-9F00-97CC51934C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712620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4C50-4042-4AFD-B8D2-9CD83A77E7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understand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730C-E136-491A-B018-C8609C979F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42636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7937640" cy="99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Wines, Deborah</cp:lastModifiedBy>
  <dcterms:modified xsi:type="dcterms:W3CDTF">2012-04-21T00:32:12Z</dcterms:modified>
  <cp:revision>19</cp:revision>
  <dc:subject/>
  <dc:title>&lt;Title&gt;</dc:title>
</cp:coreProperties>
</file>